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CE14-5C3C-4F5D-A0E3-E28D00A7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7EBB-4202-497B-B699-E0773679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54EF-4294-4E4A-9D72-CBBF3ECA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E077-CF26-4810-A66F-1797CB65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8AB6-FC16-4544-B426-FCCEE95DA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DCC6-217C-4E99-AF21-282C6124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C3538-061E-4D5D-B84E-FB6166793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AD17-4E6D-4EF6-AEFE-89B85502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B248-BB58-4119-A779-751AD1EA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A2D8-4F24-45FD-BA69-0D803C79A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CC90-D3B3-4A45-B7E4-D683F8F4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E9A3-4FEB-4FA6-9722-D5CDC949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722B5-B789-4C3D-BFF5-0FF8CBFB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77B6-50C7-4533-B1C9-D071B46D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7DF7-045B-4A03-BE51-4B4E4891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9DFCD-5E63-4942-9260-D3FEEB666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5272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220000" y="198108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44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5272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220000" y="4130640"/>
            <a:ext cx="215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C52EF-359B-422D-8838-95B97A7C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99F9-4328-4D01-9B01-6B252391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EEC8-2394-4A2E-8EE2-3770D5E1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9146-C71A-4D5F-AA61-2FFB6436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4594-75BB-4621-BD9C-90A06278C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DDA9-866B-4D09-BDEE-3BD3EF39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21640" y="413064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8C0-6E67-4AB4-A984-7202FFED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21640" y="1981080"/>
            <a:ext cx="3272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30640"/>
            <a:ext cx="67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1012-7594-4888-A22E-12B92A9E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683280" indent="-262800">
              <a:spcBef>
                <a:spcPts val="799"/>
              </a:spcBef>
              <a:buClr>
                <a:srgbClr val="0e18f3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051560" indent="-210240">
              <a:spcBef>
                <a:spcPts val="799"/>
              </a:spcBef>
              <a:buClr>
                <a:srgbClr val="20cd02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472040" indent="-210240">
              <a:spcBef>
                <a:spcPts val="799"/>
              </a:spcBef>
              <a:buClr>
                <a:srgbClr val="eaef06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1892520" indent="-210240">
              <a:spcBef>
                <a:spcPts val="799"/>
              </a:spcBef>
              <a:buClr>
                <a:srgbClr val="ff8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1892520" indent="-210240">
              <a:spcBef>
                <a:spcPts val="799"/>
              </a:spcBef>
              <a:buClr>
                <a:srgbClr val="00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E569-C8ED-4D95-8491-2F62D2067489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entury Gothic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B231-2681-4EB0-9F96-58108B159910}" type="slidenum">
              <a:rPr b="0" lang="en-US" sz="1400" spc="-1" strike="noStrike">
                <a:solidFill>
                  <a:srgbClr val="000000"/>
                </a:solidFill>
                <a:latin typeface="Century Gothic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Sea Level Forecasting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The possibility of hazards because of rising oceans produced by climate change are not limited,  but of course, to small tropical islands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uman produced climate change can lead to sea level rise by the heating of ocean surfaces,causing the water to expand (thermal expansion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6:11:32Z</dcterms:created>
  <dc:creator>PA Department of Education</dc:creator>
  <dc:description/>
  <dc:language>en-US</dc:language>
  <cp:lastModifiedBy>PA Department of Education</cp:lastModifiedBy>
  <dcterms:modified xsi:type="dcterms:W3CDTF">2009-05-27T16:29:37Z</dcterms:modified>
  <cp:revision>2</cp:revision>
  <dc:subject/>
  <dc:title>Sea Level Forecasting</dc:title>
</cp:coreProperties>
</file>